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B61EBA-D586-4C6E-AB96-BF5EB7803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3889F8-3947-43DE-A64A-76780F026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F554172-6521-4B69-9D9D-664D727D4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DE82E9-4FF4-49B4-BA28-821917E34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267DE3E-C20B-4FA2-8E0C-F4356EEEC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8A25360-7AE8-4276-9C72-9BDEFE36B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C5E64C-5DF3-45D6-9032-7765752E6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CA4AA2E-13AB-4834-9233-CD25F0242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CBC407-E285-4EAF-829D-502CB657D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B9B7CB-E83B-49E0-A7CE-064AA5E8A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0B05FFA-C966-4519-ACFE-BF27B6B18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03CDFE3-3A1B-438B-BA7C-26F587A7C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1059A5-163F-4A79-B9DE-E54DDB694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DB7EB0-4FE7-48B0-B1D0-5AD0E40F6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my scaffolds don’t give it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5E00AD0-E869-421A-BB03-34727ED22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B1CEA7-E620-4FE5-9F78-274FB1A21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CEFCD5B-3BBC-4277-AEAE-262B87ED9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C221CF4-7FBD-4D02-AD5D-299C462C3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4CCCFD5-57E5-43EE-8E9C-A9CA144AB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ECCF312-C1D6-4D08-8797-8A104DA4F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B830883-2D3A-4A9A-8213-0BA476104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C2DAD2-BABC-4185-BF4B-3F82300C1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measuring algebraic expressions for general term, but yes for term value/term number relationships or predicting 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DA0544-A76C-4D83-96ED-2D42E903E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measuring algebraic expressions for general term, but yes for representing linear growing patterns, predicting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7AFF8F-9A9B-4371-AA16-1C672DD0F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26DABA-8E9D-454B-9092-AD6009569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104895-1B0B-4AEE-BC9A-EDF38E42A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9E3200-2DAB-4923-89F8-5B023157A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CB141A4-7539-44D6-9343-90B7475A7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06681BD-C238-4574-BAB2-C8ECA58B2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1512A74-FC41-48FD-BCF8-4FCE364BA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E5135D0-D381-4C94-86ED-6C5B745E4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C048E0-BCDD-45CB-B72B-BF652E013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2DC6C74-16BE-44E5-8543-EEB0A206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6A7E910-8C2C-4FF7-A00C-27D95A567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A07ADC-5BA6-4C52-878E-652E83747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at these scaffolds don’t tell the kid what to do– they keep them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89125B-0BF7-4CFA-83F8-8615AEDFB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B11A8E-3F56-48F6-B2DA-6E494A73F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8C1504-AF8A-4CC5-8616-1904A7875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221C61-828F-42DE-A06B-61B2414D3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D44041-EF92-4503-B730-85EEB095A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AEDB0AD-7D34-4A33-A6C4-5559A4E9F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A72E3A9-D1A9-4C66-A039-6B81E5317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6343FF-F0F2-432B-9F5E-49B9E5C56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4C63262-E0B0-4F8D-9B4C-9D6DF21CF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0A418B0-C313-487D-ADAE-2D795F55C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893785-28D4-4135-829E-624D6D20D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AD8-773C-44EC-A1EE-1231555F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D60-B0D3-4F84-A2AF-EC2B7BE9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F44-3CAE-4815-BB7F-33E4BB95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077-8793-44ED-9811-28E0010E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8FB8-4783-4D97-BB34-A82B739C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8E2D-3F18-4F72-8560-8D5FD293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07DC-1FCC-4BED-8E8B-0A6DA1E7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620F-74D5-442D-A406-02152C90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5FBD-0E1A-44CD-8A0D-E75D7931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51F8-AFD2-4EF9-A416-8638329D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12F8-1B1F-4AC2-91E0-29C2A1C5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28B-0EDC-4076-89AE-04C044A0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AEC1-986E-46E7-98C2-BB87AF1F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963A-B2E7-4691-BFCA-6B01B478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2A8D-CADB-4ED8-A0BF-A6E336EC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1849-6C29-40F1-B73B-2723207E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9505-CD46-4C93-82E1-88E693B6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E3E-02E0-4015-9545-9901A405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1AE-B6DD-445C-929C-E55413BE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032-345F-4110-B88E-07593F22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5D8-D811-4DC2-B6A9-6EE7A651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F71-D1C3-4DC9-B7F6-4B01C9A2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A0F-BC02-44D5-AF62-5A3AD8D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CC3-6A0E-4D00-B94A-0DD120E6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6663-2EA1-4FA6-94BC-66AE0A05FB1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AINS_Globe_70smws"/>
          <p:cNvPicPr/>
          <p:nvPr/>
        </p:nvPicPr>
        <p:blipFill>
          <a:blip r:embed="rId2"/>
          <a:stretch/>
        </p:blipFill>
        <p:spPr>
          <a:xfrm>
            <a:off x="0" y="1066680"/>
            <a:ext cx="2637000" cy="495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Untitled-1"/>
          <p:cNvPicPr/>
          <p:nvPr/>
        </p:nvPicPr>
        <p:blipFill>
          <a:blip r:embed="rId3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133B-87CB-45F5-A420-38F6B926EC3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2666880" y="5337000"/>
            <a:ext cx="5715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Plenary 5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213336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ummer Institute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hunder Bay</a:t>
            </a:r>
            <a:endParaRPr b="0" lang="en-US" sz="4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73000" y="39621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EB7F-555B-48B2-B151-16EDA94E372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143000" y="243828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other relationship might always be tru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can I do to scaffold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0A71-B6E8-4B41-B2CF-5AD2FB29DB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143000" y="243828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oose your relationship and draw the pictur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est it by seeing if someone else gets i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 t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390C-08F1-47FC-B557-5CACCFD069D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143000" y="24382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(x +3) = 2x + 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ne possible solu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6"/>
          <p:cNvGrpSpPr/>
          <p:nvPr/>
        </p:nvGrpSpPr>
        <p:grpSpPr>
          <a:xfrm>
            <a:off x="1676520" y="3581280"/>
            <a:ext cx="4952880" cy="825840"/>
            <a:chOff x="1676520" y="3581280"/>
            <a:chExt cx="4952880" cy="825840"/>
          </a:xfrm>
        </p:grpSpPr>
        <p:sp>
          <p:nvSpPr>
            <p:cNvPr id="161" name="Rectangle 5"/>
            <p:cNvSpPr/>
            <p:nvPr/>
          </p:nvSpPr>
          <p:spPr>
            <a:xfrm>
              <a:off x="1676520" y="3581280"/>
              <a:ext cx="190476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3581280" y="3581280"/>
              <a:ext cx="190476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86400" y="358128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867640" y="358128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6248520" y="358128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11"/>
            <p:cNvSpPr/>
            <p:nvPr/>
          </p:nvSpPr>
          <p:spPr>
            <a:xfrm>
              <a:off x="2286000" y="36572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12"/>
            <p:cNvSpPr/>
            <p:nvPr/>
          </p:nvSpPr>
          <p:spPr>
            <a:xfrm>
              <a:off x="4267440" y="36572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13"/>
            <p:cNvSpPr/>
            <p:nvPr/>
          </p:nvSpPr>
          <p:spPr>
            <a:xfrm>
              <a:off x="5486400" y="3657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14"/>
            <p:cNvSpPr/>
            <p:nvPr/>
          </p:nvSpPr>
          <p:spPr>
            <a:xfrm>
              <a:off x="5867640" y="3657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5"/>
            <p:cNvSpPr/>
            <p:nvPr/>
          </p:nvSpPr>
          <p:spPr>
            <a:xfrm>
              <a:off x="6248520" y="3657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1676520" y="3962520"/>
              <a:ext cx="190476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7"/>
            <p:cNvSpPr/>
            <p:nvPr/>
          </p:nvSpPr>
          <p:spPr>
            <a:xfrm>
              <a:off x="3581280" y="3962520"/>
              <a:ext cx="190476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8"/>
            <p:cNvSpPr/>
            <p:nvPr/>
          </p:nvSpPr>
          <p:spPr>
            <a:xfrm>
              <a:off x="5486400" y="396252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9"/>
            <p:cNvSpPr/>
            <p:nvPr/>
          </p:nvSpPr>
          <p:spPr>
            <a:xfrm>
              <a:off x="5867640" y="396252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0"/>
            <p:cNvSpPr/>
            <p:nvPr/>
          </p:nvSpPr>
          <p:spPr>
            <a:xfrm>
              <a:off x="6248520" y="3962520"/>
              <a:ext cx="380880" cy="3812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21"/>
            <p:cNvSpPr/>
            <p:nvPr/>
          </p:nvSpPr>
          <p:spPr>
            <a:xfrm>
              <a:off x="2286000" y="4038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22"/>
            <p:cNvSpPr/>
            <p:nvPr/>
          </p:nvSpPr>
          <p:spPr>
            <a:xfrm>
              <a:off x="4267440" y="40388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23"/>
            <p:cNvSpPr/>
            <p:nvPr/>
          </p:nvSpPr>
          <p:spPr>
            <a:xfrm>
              <a:off x="5486400" y="403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4"/>
            <p:cNvSpPr/>
            <p:nvPr/>
          </p:nvSpPr>
          <p:spPr>
            <a:xfrm>
              <a:off x="5867640" y="403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5"/>
            <p:cNvSpPr/>
            <p:nvPr/>
          </p:nvSpPr>
          <p:spPr>
            <a:xfrm>
              <a:off x="6248520" y="403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DBD8-A23D-4CB6-8E49-7E06DA29023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143000" y="24382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x+1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=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 2x +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nother possible solu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4"/>
          <p:cNvGrpSpPr/>
          <p:nvPr/>
        </p:nvGrpSpPr>
        <p:grpSpPr>
          <a:xfrm>
            <a:off x="3505320" y="3352680"/>
            <a:ext cx="1295280" cy="1141920"/>
            <a:chOff x="3505320" y="3352680"/>
            <a:chExt cx="1295280" cy="1141920"/>
          </a:xfrm>
        </p:grpSpPr>
        <p:sp>
          <p:nvSpPr>
            <p:cNvPr id="185" name="Rectangle 26"/>
            <p:cNvSpPr/>
            <p:nvPr/>
          </p:nvSpPr>
          <p:spPr>
            <a:xfrm>
              <a:off x="3505320" y="335268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4419720" y="335268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8"/>
            <p:cNvSpPr/>
            <p:nvPr/>
          </p:nvSpPr>
          <p:spPr>
            <a:xfrm rot="5400000">
              <a:off x="3886200" y="388584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9"/>
            <p:cNvSpPr/>
            <p:nvPr/>
          </p:nvSpPr>
          <p:spPr>
            <a:xfrm rot="5400000">
              <a:off x="4419360" y="4267080"/>
              <a:ext cx="152280" cy="1522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30"/>
            <p:cNvSpPr/>
            <p:nvPr/>
          </p:nvSpPr>
          <p:spPr>
            <a:xfrm>
              <a:off x="3733920" y="3657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31"/>
            <p:cNvSpPr/>
            <p:nvPr/>
          </p:nvSpPr>
          <p:spPr>
            <a:xfrm>
              <a:off x="4343400" y="3657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32"/>
            <p:cNvSpPr/>
            <p:nvPr/>
          </p:nvSpPr>
          <p:spPr>
            <a:xfrm>
              <a:off x="3733920" y="4114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33"/>
            <p:cNvSpPr/>
            <p:nvPr/>
          </p:nvSpPr>
          <p:spPr>
            <a:xfrm>
              <a:off x="4343400" y="4126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BA6F-B94F-4124-BE2D-8874616F5D4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520" y="2438280"/>
            <a:ext cx="79246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st of the scaffolds we just saw were quite problem specific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ften, general scaffolds are also helpful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General &amp; specific scaffol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41A5-EAD4-4361-89A1-8A000A1F900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09480" y="2438280"/>
            <a:ext cx="7848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me of you used “popsicle” sticks for thi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ll of you used question stems in your FCCF group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General &amp; specific scaffol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B394-E9AE-4415-B344-58DE1C24658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" y="236232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other useful source is available in the mathematical process package of TIPS on the EDUGAINS websit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General &amp; specific scaffol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5D0D-A4CF-4ADC-8364-8076D0756C9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09480" y="1828800"/>
            <a:ext cx="78487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re have you seen something like this befor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patterns do you se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ave you thought abou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5335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For exampl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E149-20A2-46A1-9249-3CE3BC2371F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85800" y="1676520"/>
            <a:ext cx="77724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ask: You graph 2 lines. The 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is 3x + 2y = 6 and the 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is –x + 3y = 17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third line lies between them. What might its equation b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049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nother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5418-ECBE-4401-8D77-23299F907C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Picture 1.png"/>
          <p:cNvPicPr/>
          <p:nvPr/>
        </p:nvPicPr>
        <p:blipFill>
          <a:blip r:embed="rId1"/>
          <a:stretch/>
        </p:blipFill>
        <p:spPr>
          <a:xfrm>
            <a:off x="0" y="98748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A4E0-A3EE-4493-91CA-ACD94E1E054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752480"/>
            <a:ext cx="861048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uppose…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e ask an open questio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body respond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e thing we need to work on are strategies to use in that situation. Try this problem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335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caffold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82C1-CF01-47C3-9F18-62885468DC5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57200" y="1828800"/>
            <a:ext cx="800100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o you think the new slope will be positive or negative? Wh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o you think it would help to graph the two lines you are given? Do you have to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8088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are some scaffold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D42A-A669-42EB-B80A-9234FF29243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85800" y="1752480"/>
            <a:ext cx="77724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ould it help to decide its intercept first or its slope first to get its equatio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f you graph the new line, how would you calculate the slop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are some scaffold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14B6-9473-46EF-9853-6D8FF135030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Picture 1.png"/>
          <p:cNvPicPr/>
          <p:nvPr/>
        </p:nvPicPr>
        <p:blipFill>
          <a:blip r:embed="rId1"/>
          <a:stretch/>
        </p:blipFill>
        <p:spPr>
          <a:xfrm>
            <a:off x="0" y="987480"/>
            <a:ext cx="9144000" cy="4883040"/>
          </a:xfrm>
          <a:prstGeom prst="rect">
            <a:avLst/>
          </a:prstGeom>
          <a:ln w="0">
            <a:noFill/>
          </a:ln>
        </p:spPr>
      </p:pic>
      <p:sp>
        <p:nvSpPr>
          <p:cNvPr id="218" name="Straight Connector 4"/>
          <p:cNvSpPr/>
          <p:nvPr/>
        </p:nvSpPr>
        <p:spPr>
          <a:xfrm>
            <a:off x="0" y="1981080"/>
            <a:ext cx="9144000" cy="1600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7"/>
          <p:cNvSpPr/>
          <p:nvPr/>
        </p:nvSpPr>
        <p:spPr>
          <a:xfrm>
            <a:off x="0" y="1219320"/>
            <a:ext cx="8839080" cy="36576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9"/>
          <p:cNvSpPr/>
          <p:nvPr/>
        </p:nvSpPr>
        <p:spPr>
          <a:xfrm flipH="1">
            <a:off x="3048120" y="1295280"/>
            <a:ext cx="304560" cy="4267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"/>
          <p:cNvSpPr/>
          <p:nvPr/>
        </p:nvSpPr>
        <p:spPr>
          <a:xfrm flipV="1">
            <a:off x="304920" y="2437920"/>
            <a:ext cx="8839080" cy="1219320"/>
          </a:xfrm>
          <a:prstGeom prst="line">
            <a:avLst/>
          </a:prstGeom>
          <a:ln w="255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C85A-B04D-4485-A8DC-3A5B67E0994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143000" y="243828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oose an open questio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t could be your own (e.g., from yesterday), one of mine or one from a resourc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r tu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4C99-A6F0-4B62-A5FA-A04189837EF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33520" y="2057400"/>
            <a:ext cx="8229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ork with a partner to develop scaffolding questions that might help a student who doesn’t know how to start, without taking away the student’s need to think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r tu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5556-DD08-49F8-9C82-8DDC95574CD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33520" y="25146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hare your work with another pair at another tabl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h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AEC3-313C-41EE-A20B-DC304EEBA92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457200" y="243828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pen questions and parallel tasks are built for instruction. The focus is not on evaluation, but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ssessment issu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CEEF-9322-46F1-B566-3DC76048070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33520" y="2438280"/>
            <a:ext cx="8305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t makes total sense to use parallel tasks to measure communication and/or thinking and maybe (depending) knowledge or applicatio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ssessment issu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B840-60CE-4D65-A064-E3157D5FCBF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457200" y="1828800"/>
            <a:ext cx="80010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ask A: Think of a way to represent the pattern with the general term 3n +1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 925 a term in the patter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you know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-53352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For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5629-512D-4E19-BD0A-DA08E1B27DE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04920" y="1828800"/>
            <a:ext cx="81532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ask B: Think of a way to represent a pattern where each term value is eight times the term number.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 925 a term in the patter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you know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-38088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For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88AD-A956-4C13-A2FD-D6728C3DC0C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09480" y="1828800"/>
            <a:ext cx="78487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propose that this picture shows that                   4ab + (a – b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= (a+b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 matter what a and b ar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o you agre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5720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Visual algebr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3"/>
          <p:cNvGrpSpPr/>
          <p:nvPr/>
        </p:nvGrpSpPr>
        <p:grpSpPr>
          <a:xfrm>
            <a:off x="6400800" y="4800600"/>
            <a:ext cx="1523880" cy="1600200"/>
            <a:chOff x="6400800" y="4800600"/>
            <a:chExt cx="1523880" cy="1600200"/>
          </a:xfrm>
        </p:grpSpPr>
        <p:sp>
          <p:nvSpPr>
            <p:cNvPr id="104" name="Rectangle 5"/>
            <p:cNvSpPr/>
            <p:nvPr/>
          </p:nvSpPr>
          <p:spPr>
            <a:xfrm>
              <a:off x="6400800" y="4800600"/>
              <a:ext cx="1219320" cy="320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6705360" y="6080400"/>
              <a:ext cx="1219320" cy="3204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1"/>
            <p:cNvSpPr/>
            <p:nvPr/>
          </p:nvSpPr>
          <p:spPr>
            <a:xfrm rot="5400000">
              <a:off x="7132320" y="5288040"/>
              <a:ext cx="1279800" cy="304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 rot="5400000">
              <a:off x="5913000" y="5608440"/>
              <a:ext cx="1279800" cy="30456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B25D-5A2A-4955-9699-A771EEBE95E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09480" y="2057400"/>
            <a:ext cx="8534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t makes sense, even on a “test”, to use open tasks to ensure that students get an opportunity to tell as much as they know in whatever form works for them about an idea they have learned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304920" y="914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ssessment issu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739B-C72D-4713-9393-1829AB6D716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533520" y="1905120"/>
            <a:ext cx="83055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nish this paragraph as thoroughly as you can. Make sure to justify what you s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think that linear relations are useful because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30492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For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8549-C516-427A-A669-E9FCF7F2BAE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609480" y="228600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use a previously shared rubric before posing such questions to help students meet succes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It is important 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6B1D-013E-4AC2-932F-26C77573548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685800" y="236232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lthough assessment of learning should drive what you teach, it should not limit the strategies you use to meet all students’ need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ssessment issu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43D2-3B23-436B-8A5B-942904E7F6D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80880" y="1676520"/>
            <a:ext cx="80773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arting at 1, using counting numbers, number off the people at your tabl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a minute, you will move to an area for people with your number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30492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Number off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9436-BE4F-4241-BBED-84795093DBB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609480" y="2057400"/>
            <a:ext cx="8229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ur “big idea” for CAMPPP is that if you think more broadly about what you are focusing on in instruction, you are more likely to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3049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ummarizing big ide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213D-D846-48FE-83EC-99E90005C96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609480" y="1905120"/>
            <a:ext cx="7848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elp students make essential conn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sure that students learn what is really importa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30492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ummarizing big ide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1700-BADE-4EBF-92D0-A9ABF64E613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143000" y="24382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sure that a much broader range of students can meet suc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ummarizing big ide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BB50-3B01-4313-87FC-EE873C3AF77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33520" y="1828800"/>
            <a:ext cx="8610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ying to convince someone of the value of big ideas and only had 1 minute, what would you do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 with 3 people with your number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If you wer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3D2C-8771-481E-BF79-D43C1C89110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609480" y="1752480"/>
            <a:ext cx="83059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ur CAMPPP big ideas are, as always, a work in progres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are encouraged to fine tune them with colleagues or on your ow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ut teach to them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Remember…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EEC3-9FD1-4194-8448-3D468ED13E5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143000" y="243828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re do you see the 4ab in the pictur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y do you think that that part of the picture made sense for 4ab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can I do to scaffold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3"/>
          <p:cNvGrpSpPr/>
          <p:nvPr/>
        </p:nvGrpSpPr>
        <p:grpSpPr>
          <a:xfrm>
            <a:off x="7314840" y="5257800"/>
            <a:ext cx="1219680" cy="1295280"/>
            <a:chOff x="7314840" y="5257800"/>
            <a:chExt cx="1219680" cy="1295280"/>
          </a:xfrm>
        </p:grpSpPr>
        <p:sp>
          <p:nvSpPr>
            <p:cNvPr id="112" name="Rectangle 6"/>
            <p:cNvSpPr/>
            <p:nvPr/>
          </p:nvSpPr>
          <p:spPr>
            <a:xfrm>
              <a:off x="7315200" y="5257800"/>
              <a:ext cx="974880" cy="2584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7559640" y="6294600"/>
              <a:ext cx="974880" cy="2584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 rot="5400000">
              <a:off x="7893360" y="5653800"/>
              <a:ext cx="1036800" cy="2444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 rot="5400000">
              <a:off x="6918480" y="5912280"/>
              <a:ext cx="1036800" cy="24444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3F8A-C352-449B-894F-6F63A22ABA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143000" y="243828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ur focus has been on differentiating instruction, not just practice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ummarizing D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98B0-EC2D-496F-B61D-FEFD0E5BF66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09480" y="228600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e want all students, from struggling to talented, to all meet success, but to be challenged and to find the math engaging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ummarizing D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EBBE-EF83-4D16-8BC7-A33CE7AF3C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533520" y="2438280"/>
            <a:ext cx="86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nvince a colleague why differentiating instruction and not just practice is important and you have 1 min, what would you do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If you want to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FEAA-AFA5-43A1-BC11-B8A5678FC5E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143000" y="24382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ree other people with your number and make your cas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Join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5952-A5EE-469A-A7C2-805E44A514A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Back to sea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8D94-BAFB-49D6-A709-A81354E3A94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609480" y="2286000"/>
            <a:ext cx="82296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lease feel welcome to ask any questions or offer any insights on what we’ve discussed in plenaries this week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35040" indent="-6350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kestell@sympatico.c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r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FF76-1C4C-4F09-8A56-86C694BCF09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33520" y="2438280"/>
            <a:ext cx="79246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kind of shape would you look for to model          (a+b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y that shap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can I do to scaffold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2927-4D95-440B-8FB9-7190EC83B1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981080"/>
            <a:ext cx="792468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re are two squares in the picture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re is an (a+b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and        an  (a-b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ich has to be which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can I do to scaffold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7010280" y="2971800"/>
            <a:ext cx="2438640" cy="2409840"/>
            <a:chOff x="7010280" y="2971800"/>
            <a:chExt cx="2438640" cy="2409840"/>
          </a:xfrm>
        </p:grpSpPr>
        <p:grpSp>
          <p:nvGrpSpPr>
            <p:cNvPr id="123" name="Group 13"/>
            <p:cNvGrpSpPr/>
            <p:nvPr/>
          </p:nvGrpSpPr>
          <p:grpSpPr>
            <a:xfrm>
              <a:off x="7467480" y="3124080"/>
              <a:ext cx="1524240" cy="1599840"/>
              <a:chOff x="7467480" y="3124080"/>
              <a:chExt cx="1524240" cy="1599840"/>
            </a:xfrm>
          </p:grpSpPr>
          <p:sp>
            <p:nvSpPr>
              <p:cNvPr id="124" name="Rectangle 16"/>
              <p:cNvSpPr/>
              <p:nvPr/>
            </p:nvSpPr>
            <p:spPr>
              <a:xfrm>
                <a:off x="7467480" y="3124080"/>
                <a:ext cx="1219320" cy="320400"/>
              </a:xfrm>
              <a:prstGeom prst="rect">
                <a:avLst/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7"/>
              <p:cNvSpPr/>
              <p:nvPr/>
            </p:nvSpPr>
            <p:spPr>
              <a:xfrm>
                <a:off x="7772400" y="4403520"/>
                <a:ext cx="1219320" cy="320400"/>
              </a:xfrm>
              <a:prstGeom prst="rect">
                <a:avLst/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8"/>
              <p:cNvSpPr/>
              <p:nvPr/>
            </p:nvSpPr>
            <p:spPr>
              <a:xfrm rot="5400000">
                <a:off x="8199360" y="3611520"/>
                <a:ext cx="1279440" cy="304560"/>
              </a:xfrm>
              <a:prstGeom prst="rect">
                <a:avLst/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9"/>
              <p:cNvSpPr/>
              <p:nvPr/>
            </p:nvSpPr>
            <p:spPr>
              <a:xfrm rot="5400000">
                <a:off x="6980040" y="3931920"/>
                <a:ext cx="1279440" cy="304560"/>
              </a:xfrm>
              <a:prstGeom prst="rect">
                <a:avLst/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Box 12"/>
            <p:cNvSpPr/>
            <p:nvPr/>
          </p:nvSpPr>
          <p:spPr>
            <a:xfrm>
              <a:off x="7010280" y="365724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3"/>
            <p:cNvSpPr/>
            <p:nvPr/>
          </p:nvSpPr>
          <p:spPr>
            <a:xfrm>
              <a:off x="7391160" y="48002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14"/>
            <p:cNvSpPr/>
            <p:nvPr/>
          </p:nvSpPr>
          <p:spPr>
            <a:xfrm>
              <a:off x="8229600" y="480024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15"/>
            <p:cNvSpPr/>
            <p:nvPr/>
          </p:nvSpPr>
          <p:spPr>
            <a:xfrm>
              <a:off x="7010280" y="2971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C130-68E2-40F8-B11F-589F14973F4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43000" y="2133720"/>
            <a:ext cx="73152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w I would ask---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lease draw a picture to show a different algebraic relationship that is always tru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Visual algebr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96F7-3565-4423-A147-AB112C1E8E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143000" y="243828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44136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y is x + 1 = 1 + x an algebraic relationship that is always tru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44136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kind of picture might show thi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can I do to scaffold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B3B5-55DA-48AD-A6C0-D53E27A705A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143000" y="2438280"/>
            <a:ext cx="7315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aybe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can I do to scaffold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9"/>
          <p:cNvGrpSpPr/>
          <p:nvPr/>
        </p:nvGrpSpPr>
        <p:grpSpPr>
          <a:xfrm>
            <a:off x="685800" y="3581280"/>
            <a:ext cx="2895480" cy="1219320"/>
            <a:chOff x="685800" y="3581280"/>
            <a:chExt cx="2895480" cy="1219320"/>
          </a:xfrm>
        </p:grpSpPr>
        <p:sp>
          <p:nvSpPr>
            <p:cNvPr id="142" name="Rectangle 5"/>
            <p:cNvSpPr/>
            <p:nvPr/>
          </p:nvSpPr>
          <p:spPr>
            <a:xfrm>
              <a:off x="685800" y="3581280"/>
              <a:ext cx="2895480" cy="4572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1447560" y="43434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7"/>
            <p:cNvSpPr/>
            <p:nvPr/>
          </p:nvSpPr>
          <p:spPr>
            <a:xfrm>
              <a:off x="1828800" y="3581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8"/>
            <p:cNvSpPr/>
            <p:nvPr/>
          </p:nvSpPr>
          <p:spPr>
            <a:xfrm>
              <a:off x="1523880" y="44197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6"/>
          <p:cNvGrpSpPr/>
          <p:nvPr/>
        </p:nvGrpSpPr>
        <p:grpSpPr>
          <a:xfrm>
            <a:off x="4800240" y="3428640"/>
            <a:ext cx="2895480" cy="1219320"/>
            <a:chOff x="4800240" y="3428640"/>
            <a:chExt cx="2895480" cy="1219320"/>
          </a:xfrm>
        </p:grpSpPr>
        <p:sp>
          <p:nvSpPr>
            <p:cNvPr id="147" name="Rectangle 27"/>
            <p:cNvSpPr/>
            <p:nvPr/>
          </p:nvSpPr>
          <p:spPr>
            <a:xfrm rot="10800000">
              <a:off x="4800240" y="4187160"/>
              <a:ext cx="2895480" cy="4546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 rot="10800000">
              <a:off x="6476760" y="3428640"/>
              <a:ext cx="457200" cy="454680"/>
            </a:xfrm>
            <a:prstGeom prst="rect">
              <a:avLst/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29"/>
            <p:cNvSpPr/>
            <p:nvPr/>
          </p:nvSpPr>
          <p:spPr>
            <a:xfrm rot="10800000">
              <a:off x="5644800" y="42796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30"/>
            <p:cNvSpPr/>
            <p:nvPr/>
          </p:nvSpPr>
          <p:spPr>
            <a:xfrm rot="10800000">
              <a:off x="5949720" y="34455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1:35:18Z</dcterms:created>
  <dc:creator>Peel District School Board</dc:creator>
  <dc:description/>
  <dc:language>en-US</dc:language>
  <cp:lastModifiedBy>Kathy Kubota-Zarivnij</cp:lastModifiedBy>
  <dcterms:modified xsi:type="dcterms:W3CDTF">2009-08-21T14:54:13Z</dcterms:modified>
  <cp:revision>32</cp:revision>
  <dc:subject/>
  <dc:title>Coaching for Math GAINS Professional Learning</dc:title>
</cp:coreProperties>
</file>